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2F2-414F-48D5-B43E-D722A9AE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1EE-A6D1-48CF-A337-5DAEA862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65A-C6B2-4ABA-A930-F9BB2E18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BDB-CB7F-40EF-96E2-781AB232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494-FCD4-4D11-BC54-CB2966EC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CAF9-BFCB-4496-AFBA-09F13AAD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9BC0-9F30-4795-A832-9A089EB6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5BD9-F6F9-4E38-98E5-80DA38E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AD1B-2EBA-498E-8428-7F3AA286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2D57-FD62-46BE-8443-DBFA8624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E8B3-3687-477B-941E-240561A3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982-F5AA-41DB-843C-79482564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CCB0-6687-45B6-9D31-444BFCC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BE94-B2AE-489D-AEED-085F70A1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C515-57CD-464E-8143-8FD572B2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275C-A4EE-4E2B-B149-F0B6AE56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561F-17BB-432C-8F81-7EF8E0C3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E8F-06E1-4EE6-9D36-CC498566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EEC-0BAE-4AAC-BF46-B3E79F42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3BC-08E6-4CBF-960C-718851A5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703-C2D4-432A-8DDF-105F8535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87C-F147-486A-B8C3-393F5A14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31D-F916-4C4A-96D7-80A5143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65E-600B-4B76-B906-00CEA0F7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2972-AE92-4852-91E3-6A83A28073A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A904-4E3F-49EE-92CE-42885A4C3A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Adjectives</a:t>
            </a:r>
            <a:endParaRPr b="0" lang="en-US" sz="6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5840" y="35809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2324520" y="1820880"/>
            <a:ext cx="609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turtle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2320" y="4114800"/>
          <a:ext cx="4583160" cy="21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114800"/>
                    <a:ext cx="458316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2317680" y="18208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man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8120" y="3124080"/>
          <a:ext cx="3124080" cy="28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124080"/>
                    <a:ext cx="312408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373480" y="1820880"/>
            <a:ext cx="53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sun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971800" y="2819520"/>
          <a:ext cx="323208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819520"/>
                    <a:ext cx="32320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820880"/>
            <a:ext cx="583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book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05320" y="2895480"/>
          <a:ext cx="2203200" cy="346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895480"/>
                    <a:ext cx="220320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277720" y="1820880"/>
            <a:ext cx="602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apple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52680" y="2743200"/>
          <a:ext cx="267336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743200"/>
                    <a:ext cx="267336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2248560" y="182088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mouse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657600" y="2666880"/>
          <a:ext cx="2147760" cy="33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666880"/>
                    <a:ext cx="21477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5:12:53Z</dcterms:created>
  <dc:creator>prussell</dc:creator>
  <dc:description/>
  <dc:language>en-US</dc:language>
  <cp:lastModifiedBy>dyera</cp:lastModifiedBy>
  <dcterms:modified xsi:type="dcterms:W3CDTF">2007-04-25T21:06:00Z</dcterms:modified>
  <cp:revision>2</cp:revision>
  <dc:subject/>
  <dc:title>Adjectives</dc:title>
</cp:coreProperties>
</file>